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CEA-D5BD-4A91-96FD-2D283FAA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9CD-2DF9-4CD9-B893-5C2704F6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061-8BFD-4811-B1B3-485DC05E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022-7D15-4D13-94C8-8F962BDF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A51E-DA6F-4F4D-8AE2-7E150146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01A8-0720-4893-9FF8-F665E29F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2763-1544-4DE9-B96C-2BCCFBB8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54C4-EA6A-45E3-A4FD-1F600707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880A-544E-4C72-899C-C0DEC95D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ABA9-8BA1-4B55-ABC5-70E930DD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90C8-502B-42B1-8944-53FBCA68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232-8D7A-4221-83FC-C1CA1986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3F24-D105-4C2C-8F8B-1B07CA52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667A-B6FF-4904-B324-E53B8478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2BF4-B063-472E-8B6A-7A91987D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98BA-DED1-479A-A37F-B64C8DD4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6304-1217-4F2E-A8CE-550E1DF9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B89-16FB-46DB-B81D-2F4301F7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520-51CD-4671-9E3F-2A9210F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A0B-BC61-4A59-B4F2-9778561C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8D5-E62D-4ADC-AAFB-F1138815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D7D-726E-4F4D-AC8E-72BB3096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3C7-BB79-464F-A284-E9AF986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BF8-7A0C-4C1E-8AB8-D6BDDEF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A0E4-1B7C-499D-A7AE-1BACB978E0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328D-3CC7-4EA7-A243-6AF5F27496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A Remnant Shall Retur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8, Lesson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40-4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12,24,26,29-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emiah 21,37,34,32,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3757680"/>
            <a:ext cx="4191120" cy="3100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838080"/>
            <a:ext cx="5043600" cy="2800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099040" y="838080"/>
            <a:ext cx="40449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102360" y="3200400"/>
            <a:ext cx="3041640" cy="365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629400" y="2438280"/>
            <a:ext cx="30492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522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mall-scale modern day recreation of the temple in Jerusa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85572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19520" y="3886200"/>
            <a:ext cx="45720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28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zekiel and Jeremiah’s Prophesies During This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175248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876920"/>
            <a:ext cx="1447560" cy="1143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Zedekiah’s Captivity is Signifi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12:1-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dig a tunnel through a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remble and shudder as he eats his food and drinks his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discuss the erroneous proverb that gives false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zekiel and Jeremia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dekiah is pressured to rebel against Nebuchadnezzar and make an alliance with Egy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emiah warned him that God would not help Judah – Jer. 21:1-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zekiel was told the day the king of Babylon laid siege to the city of Jerusalem –Ezek. 24:1-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gyptians distracted the siege, and this gave Zedekiah false hope. – Jer. 3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emiah warned him not to cling to such false hope – Jer. 37:9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zekiel and Jeremia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is told that Jerusalem was a filthy pot that needed burning – Ezek. 24:1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is forbidden to make outward mourning for the death of his wife – 24:15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a sign to the Judeans of how they will have to act when their calamity 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prophesies against Egypt - 29-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zekiel and Jeremia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emiah bought a field as a sign that God would one day restore Israel to the land – Jer. 32:1-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reaching continued to anger the Jewish lea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cast him into the dungeon of Malchiah –  38:1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ther Nations Would Also Fall To The Chaldea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 – Ezek. 29-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Egypt’s allies – 30:1-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re – Total destruction – 26:1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3:53:33Z</dcterms:created>
  <dc:creator>Terry W. Benton</dc:creator>
  <dc:description/>
  <dc:language>en-US</dc:language>
  <cp:lastModifiedBy>Frank D Vines</cp:lastModifiedBy>
  <dcterms:modified xsi:type="dcterms:W3CDTF">2007-02-01T15:56:08Z</dcterms:modified>
  <cp:revision>9</cp:revision>
  <dc:subject/>
  <dc:title>A Remnant Shall Return</dc:title>
</cp:coreProperties>
</file>